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2BC8-405E-4A6C-9B9E-111D25371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3FD4-BB6C-46F5-BCC3-9CA9481C3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750-7CDE-4A0A-988A-539ECEDD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F1A-28BD-412C-94BB-6D8A9719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90F-D94C-401B-94A6-F9BBAF15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A21-5016-48D5-BEB3-08B428B3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A848-5D2B-43FF-B1DC-E884E4E5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D37-8FE3-4D48-8248-062437B6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C1E-FB72-4D20-89D5-53B53549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D13-06BF-4593-A524-29C7A21A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27D-9B10-4F49-9568-D04BAA9A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CE5-6823-460D-AF29-767D1FDD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EF7-CCEC-4449-8F75-0A6007F8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67E-F782-4809-AD85-5793A5D1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26BE-1FDD-421B-88AD-E7CEE8E63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rittany Gr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Brittany Gr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2860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Brittany Greve 16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5146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5146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Brittany Grev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7432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Brittany Greve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7432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29718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6002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29718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2004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3341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04920" y="51055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o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267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76320" y="3200400"/>
            <a:ext cx="175248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llamo es brittany. Yo vivo en New York City.  Tengo catorce años. Yo tengo uno hermana. Yo amo gimnásticas y música. Yo tengo cabello rojo y ojos 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1066680" y="5105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0" y="6248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aldi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4560" y="6095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971800" y="4114800"/>
            <a:ext cx="601992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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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</a:t>
            </a:r>
            <a:r>
              <a:rPr b="0" lang="es-ES_tradnl" sz="1200" spc="-1" strike="noStrike">
                <a:solidFill>
                  <a:srgbClr val="000000"/>
                </a:solidFill>
                <a:latin typeface="Apple Symbols"/>
                <a:ea typeface="Apple Symbols"/>
              </a:rPr>
              <a:t>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3124080" y="335268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oy loco ahora. Estoy enfermo porque mi hermana                           Ton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Hoy es tres de Dici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3124080" y="2514600"/>
            <a:ext cx="38862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oy muy cansada. ¿Puedes venir mis casa mañan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?                Patrick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1 hour ago.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y es tres de Dici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3124080" y="4952880"/>
            <a:ext cx="541044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bien                                                                              Hann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hago   Octubre 22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3124080" y="548640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Gerald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124080" y="6324480"/>
            <a:ext cx="40388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Stephan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5 sceonds ago            Octubre 22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362320" y="1905120"/>
            <a:ext cx="358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! ¿Cómo están mis amigos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610920" y="609588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han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111"/>
          <p:cNvPicPr/>
          <p:nvPr/>
        </p:nvPicPr>
        <p:blipFill>
          <a:blip r:embed="rId1"/>
          <a:stretch/>
        </p:blipFill>
        <p:spPr>
          <a:xfrm>
            <a:off x="1981080" y="2590920"/>
            <a:ext cx="838440" cy="62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0" descr="007"/>
          <p:cNvPicPr/>
          <p:nvPr/>
        </p:nvPicPr>
        <p:blipFill>
          <a:blip r:embed="rId2"/>
          <a:stretch/>
        </p:blipFill>
        <p:spPr>
          <a:xfrm>
            <a:off x="2133720" y="3276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1" descr="956"/>
          <p:cNvPicPr/>
          <p:nvPr/>
        </p:nvPicPr>
        <p:blipFill>
          <a:blip r:embed="rId3"/>
          <a:stretch/>
        </p:blipFill>
        <p:spPr>
          <a:xfrm>
            <a:off x="2286000" y="403848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900"/>
          <p:cNvPicPr/>
          <p:nvPr/>
        </p:nvPicPr>
        <p:blipFill>
          <a:blip r:embed="rId4"/>
          <a:stretch/>
        </p:blipFill>
        <p:spPr>
          <a:xfrm>
            <a:off x="457200" y="380880"/>
            <a:ext cx="743040" cy="99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3" descr="387"/>
          <p:cNvPicPr/>
          <p:nvPr/>
        </p:nvPicPr>
        <p:blipFill>
          <a:blip r:embed="rId5"/>
          <a:stretch/>
        </p:blipFill>
        <p:spPr>
          <a:xfrm>
            <a:off x="2209680" y="4876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4" descr="843"/>
          <p:cNvPicPr/>
          <p:nvPr/>
        </p:nvPicPr>
        <p:blipFill>
          <a:blip r:embed="rId6"/>
          <a:stretch/>
        </p:blipFill>
        <p:spPr>
          <a:xfrm>
            <a:off x="2362320" y="55627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5" descr="945"/>
          <p:cNvPicPr/>
          <p:nvPr/>
        </p:nvPicPr>
        <p:blipFill>
          <a:blip r:embed="rId7"/>
          <a:stretch/>
        </p:blipFill>
        <p:spPr>
          <a:xfrm>
            <a:off x="2286000" y="624852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6" descr="007"/>
          <p:cNvPicPr/>
          <p:nvPr/>
        </p:nvPicPr>
        <p:blipFill>
          <a:blip r:embed="rId8"/>
          <a:stretch/>
        </p:blipFill>
        <p:spPr>
          <a:xfrm>
            <a:off x="228600" y="4572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7" descr="111"/>
          <p:cNvPicPr/>
          <p:nvPr/>
        </p:nvPicPr>
        <p:blipFill>
          <a:blip r:embed="rId9"/>
          <a:stretch/>
        </p:blipFill>
        <p:spPr>
          <a:xfrm>
            <a:off x="990720" y="4572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8" descr="843"/>
          <p:cNvPicPr/>
          <p:nvPr/>
        </p:nvPicPr>
        <p:blipFill>
          <a:blip r:embed="rId10"/>
          <a:stretch/>
        </p:blipFill>
        <p:spPr>
          <a:xfrm>
            <a:off x="76320" y="5486400"/>
            <a:ext cx="57132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9" descr="945"/>
          <p:cNvPicPr/>
          <p:nvPr/>
        </p:nvPicPr>
        <p:blipFill>
          <a:blip r:embed="rId11"/>
          <a:stretch/>
        </p:blipFill>
        <p:spPr>
          <a:xfrm>
            <a:off x="685800" y="5562720"/>
            <a:ext cx="615960" cy="609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0" descr="956"/>
          <p:cNvPicPr/>
          <p:nvPr/>
        </p:nvPicPr>
        <p:blipFill>
          <a:blip r:embed="rId12"/>
          <a:stretch/>
        </p:blipFill>
        <p:spPr>
          <a:xfrm>
            <a:off x="1371600" y="5486400"/>
            <a:ext cx="5716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8:26:04Z</dcterms:modified>
  <cp:revision>111</cp:revision>
  <dc:subject/>
  <dc:title>Profile</dc:title>
</cp:coreProperties>
</file>